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94264"/>
        <c:axId val="95770906"/>
      </c:barChart>
      <c:catAx>
        <c:axId val="64942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70906"/>
        <c:crosses val="autoZero"/>
        <c:auto val="1"/>
        <c:lblAlgn val="ctr"/>
        <c:lblOffset val="100"/>
        <c:noMultiLvlLbl val="0"/>
      </c:catAx>
      <c:valAx>
        <c:axId val="957709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42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245A-D8DD-4FF1-BFD3-D7757476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2364-F01B-4DDD-8CFD-F24CEBA3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D104-171F-4943-A865-B1D709B7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5381-E008-4994-B84C-70497E64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B449-8232-4B01-BDC7-954F36E3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5D54-0870-4E6D-85B8-C9253C98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5D83-67D5-44BA-90D0-6A6F29D2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5945-2722-4A6C-8853-C3D383B8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EC4A-A4C7-468C-96C1-F330321F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3EC6-630E-45AC-A360-7D276E5D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932C-31E3-4B1A-89DD-E1AFFE59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A41C-7D12-4070-A41F-98AA6712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17017-D4A7-4135-B2E1-497A093A16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