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91121"/>
        <c:axId val="86284736"/>
      </c:barChart>
      <c:catAx>
        <c:axId val="11991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84736"/>
        <c:crosses val="autoZero"/>
        <c:auto val="1"/>
        <c:lblAlgn val="ctr"/>
        <c:lblOffset val="100"/>
        <c:noMultiLvlLbl val="0"/>
      </c:catAx>
      <c:valAx>
        <c:axId val="86284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91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AB9-F1B6-4580-84FE-0C341BCE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457-D343-4B54-B789-B6551FF4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6A4-9C53-400D-BAE0-0C11F6D5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B381-5E27-48D4-B220-FE5BC5C1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C33-807D-4F12-AABA-0EEC7EB5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06C-2E4D-4AAF-8511-6CB4DFD1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808-12AD-4F23-8164-18789487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72A-8274-4208-81A3-D63AE886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F64-DC02-4500-A7C8-24A1E646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60F-D104-484A-975F-87FC59B1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B51-F131-4439-B768-394201CE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2C0-8B20-492B-89ED-F5ED8E6A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75D95-20ED-45DF-A352-A9ADCF780F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