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16078"/>
        <c:axId val="25167338"/>
      </c:barChart>
      <c:catAx>
        <c:axId val="25616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67338"/>
        <c:crosses val="autoZero"/>
        <c:auto val="1"/>
        <c:lblAlgn val="ctr"/>
        <c:lblOffset val="100"/>
        <c:noMultiLvlLbl val="0"/>
      </c:catAx>
      <c:valAx>
        <c:axId val="251673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16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9CFA-A1F9-4AF5-B5EB-F1F6F758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F597-F1DF-427F-825E-AEE4875D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BAD-4301-419B-8545-9A602AC9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47AD-717A-48DF-B720-9FE64402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DA9-FC59-4FC4-9EBA-07E18514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B6B-D664-4182-B705-787879EB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F20-58E1-414C-818C-9D19E771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E5E-7399-4A32-B129-1FAFE2D2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E37-4386-4380-93CA-ABB194E5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F60-7702-440B-9CE9-A5D4B3D7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249-7964-4A70-ACF7-A89E35C3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2D68-304D-4E81-8588-256A4F47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70DFC-97EF-4BBA-9E9F-23900D55C6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