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0517"/>
        <c:axId val="11867261"/>
      </c:barChart>
      <c:catAx>
        <c:axId val="2430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67261"/>
        <c:crosses val="autoZero"/>
        <c:auto val="1"/>
        <c:lblAlgn val="ctr"/>
        <c:lblOffset val="100"/>
        <c:noMultiLvlLbl val="0"/>
      </c:catAx>
      <c:valAx>
        <c:axId val="11867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0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DC5-4A03-4BBE-A727-AEE8B65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736-D192-40C3-B419-56F1F7E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ED5-E0A4-45E7-A8A9-0C855061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BF3-E96E-44D5-9BF8-482DBCE3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DBA-B545-49F2-B307-412445E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E10-FFA4-4DE7-BCD5-5CDAE268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34D-FEDC-4842-9B72-60D7CBCA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1E3-4ED4-4F36-8B78-4B712C30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EBE-F718-43BB-86DD-9BAA606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2B5-CDA6-42FE-9E13-3BADE8B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C6A-2D96-4995-9784-118AB2A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36C-54EF-43B6-B497-DD549DA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856C0-7345-4E33-80B7-FF3F4E481A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